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603-ED34-4087-A2F6-8F3C6461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552-7EBB-4AD3-95F9-32C745B7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008-09EE-4CFC-B59A-8F524F2A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45C-B29C-4EB1-8DD6-42A8B5DB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16F-1A93-42F1-9EA2-EC469155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61D-8708-4589-8C6E-85A6BD11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8F9-82A9-4FE1-8824-11E13C4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785-520A-483B-987D-949D158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AA1-C379-4127-952C-C69D408B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ABD-0517-4833-B043-FA3602B9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AB7-B5FC-408E-97DC-C15FDFE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7E1-8DF8-4DDB-A534-53BA58A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C9E2-1524-4E38-90B0-72BF3223E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0240"/>
            <a:ext cx="8153280" cy="682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РАШНАЯ 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34080" y="166680"/>
            <a:ext cx="69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БОУ «Средняя общеобразовательная школа № 15» г. Калу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6560" y="3465360"/>
            <a:ext cx="27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8 класс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дрявцева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416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чему дети добровольно уходят из жизн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ответная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сил боро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м наз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ите на меня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муч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никому не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43600" y="3838680"/>
            <a:ext cx="30481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мотивы суицидального поведения у детей и подрост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живание обиды, одиночества, отчужденности и непо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Действительная или мнимая утрата любви родителей, неразделенное чувство и ре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ереживания, связанные со смертью, разводом или уходом родителей из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Чувства вины, стыда, оскорбленного самолюбия, самообв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оязнь позора, насмешек или ун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трах наказания, нежелание извин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юбовные неудачи, сексуальные эксцессы, берем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Чувство мести, злобы, протеста; угроза или вымог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Желание привлечь к себе внимание, вызвать сочувствие, избежать неприятных последствий, уйти от труд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очувствие или подражание товарищам, героям книг или филь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25641"/>
          <a:stretch/>
        </p:blipFill>
        <p:spPr>
          <a:xfrm>
            <a:off x="6400800" y="5329080"/>
            <a:ext cx="27432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весные при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росток, готовящийся совершить самоубийство, часто говорит о своём душевном состоя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ямо говорит о смерти: «Я собираюсь покончить с собой», «Я не могу так дальше жить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освенно намекает о своём намерении: «Я больше не буду ни для кого проблемой», «Тебе больше не придётся обо мне волноватьс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много шутит на тему самоуби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оявляет нездоровую заинтересованность вопросами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4267080"/>
            <a:ext cx="36576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денческие при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раздавать другим вещи, имеющие большую личную значимость, окончательно приводить в порядок дела, мириться с давними враг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демонстрировать радикальные перемены в поведении, такие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 еде - есть слишком мало или слишком мно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 сне - спать слишком мало или слишком мн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 внешнем виде - стать неряшливы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 школьных привычках - пропускать занятия, не выполнять  домашние задания, избегать общения с одноклассниками, проявлять раздражительность, угрюмость, находиться в подавленном настроен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амкнуться от семьи и друз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ыть чрезмерно деятельным или наоборот безразличным к окружающему миру; ощущать попеременно то внезапную эйфорию, то приступы отчая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являть признаки беспомощности, безнадёжности и отча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15200" y="41400"/>
            <a:ext cx="18288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еты психолога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имательно выслушайте решившегося на самоубийство подростка. В состоянии душевного кризиса любому из нас, прежде всего, необходим кто-нибудь, кто готов нас выслушать. Приложите все усилия, чтобы понять проблему, скрытую за сло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цените серьезность намерений и чувств ребенка, узнайте его конкретный план совершения самоубийства. Ситуация будет более острой, если ребенок имеет ясное представление о том, каким способом он хотел бы покончить с с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цените глубину эмоционального кризиса. Подросток может испытывать серьезные трудности, но при этом не помышлять о самоубий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нимательно отнеситесь ко всем, даже самым незначительным обидам и жалобам ребенка, не пренебрегайте ничем из всего сказанного им. Попытайтесь убедить его раскрыть свои чувства, поделиться накопившимися пробл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еты психолога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е бойтесь прямо спросить ребенка, не думает ли он о самоубийстве. Опыт показывает, что такой вопрос редко приносит вред. Часто подросток бывает рад возможности открыто высказать свои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старайтесь акцентировать внимание ребенка на позитивных моментах жизни. Попросите подростка, чтобы он припомнил эмоционально приятные события, связанные с чем-то очень важным для него: увлечением спортом, общением с друзьями, воплощением мечты, гордостью за него родителей – всем тем, что очень высоко ценится ребенком. Спросите у подростка, что ощутили бы близкие люди, узнав о его смерти. Такая попытка проговорить чувства окружающих значимых людей может принести ощутимый эфф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ридайте уверенность ребенку, объясните ему, что вместе вы обязательно справитесь со своими пробл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2416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2416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9T13:53:5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